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E712-D717-406F-A11B-5679C433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5381-40EB-4A34-A19F-4E0F6AAE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E5B9-0FC0-4BC5-B2C0-919CDD6E3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C8F8-6B27-49F9-A696-EDD289A8B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F243-AB76-49BD-8FAA-C7D52C53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F9CBE-6E01-4CA3-AEBB-D3C08450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856D8-29FC-4B6F-92D5-702FD0D9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2C97-86FC-4B03-A54A-FB4D3C9B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1393-D81B-4A5D-8F72-5C7ACBF1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ECC14-D4C1-41B6-8465-28E00F4E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197A4-03F2-4E8D-90C3-30BC2DD1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9CA3-4B80-439A-9925-6ADFE616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09B4-65EB-4B00-BA88-D72BA235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FD33-40EC-4B6E-B7DE-FFCCC22E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594A-F0B7-49E1-B6C6-E142CBDD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60C7C-02A9-4036-AE5A-E64B1C69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91D0F-8D3B-47FF-83E6-39A4AB3C3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C0B90-A646-469A-8205-3E074408A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5991F-81DF-4072-B28E-ED0EE6EBB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B668B-B6A2-425F-A50A-047FA4A2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DD2BC-C4CF-42DB-A18D-A79E4C8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75C3-92A8-465B-962F-13826503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875-520B-4C76-AE58-C598CC546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4ECA8-F84F-4721-A541-F4DF6A12B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554A-7C5F-4689-80DA-624C5EE1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BCA6B-D514-440F-91F9-B9660A55D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E5A9B-2F88-4110-9C84-B8B32C5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7FBC-0669-4A57-9FDD-789A4F4B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02A45-81D8-4C6C-B79C-C0B4BC2E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65436-53D9-4809-A2D3-07B82C21D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3CB7-7F53-46AE-889A-D427C7716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0380A-74A7-48BF-918F-E6386B6B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46697-B090-4ACE-80EF-3B27DECE3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B7F-985F-48ED-AFCF-64A14DD8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DCAEB-5074-4125-A868-8A8162D2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D4590-CDD7-4C29-895B-E7E13FDC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703D5E-31ED-44D9-8A0F-FEBD3F7C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3B36B-7D60-4074-8760-DB4071CD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8E19E-F9C9-4CE1-9761-50428961A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E5864-2C50-4037-A8B8-3C67479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7F7BF-6F35-4645-B389-D30C9B37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0137F-61E6-406C-B8E2-FC74D0EDD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7948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38600" y="19792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72036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7948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38600" y="3952080"/>
            <a:ext cx="2722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21B06-1EC3-4768-8ABE-8BB9F6AD7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054-E212-4AA5-AA07-F9F64F67E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539640"/>
            <a:ext cx="8637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7D8D-49FF-4327-9BFA-6E5178650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BC41-D5E1-4603-92BF-51987B72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3680" y="39520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A0CD-C79D-41BD-B223-10C63C09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3680" y="1979280"/>
            <a:ext cx="412668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52080"/>
            <a:ext cx="8456760" cy="1801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D5C5-F898-4DAD-A081-1FB0C03C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92611-2674-4781-A2B1-11B990DBCF9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58101-BB34-4E57-9FE7-0AC2EB071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B40057-03CD-4FB0-BEC5-B51250E071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863748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456760" cy="3776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76080" y="630072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419640" y="6318000"/>
            <a:ext cx="321912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11720" y="631800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1D9897-2FE0-4C69-84E6-7D5C796BC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resourceeducationsolutions.com/" TargetMode="External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6040" y="498600"/>
            <a:ext cx="8640720" cy="113184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Demystifying Asperger's and Absolutism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720360" y="1523520"/>
            <a:ext cx="845964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ies and strategies developed at: Resource Education Solutions, L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resourceeducationsolution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Kaplan, M.Ed, Sp.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nder and Director, Resource Education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Huebner, Lead teacher, B.S, G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gnosed with Asperger's, 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7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6b6b"/>
                </a:solidFill>
                <a:latin typeface="Arial"/>
              </a:rPr>
              <a:t>A real life story by Simon Huebner, B.S., Geology, diagnosed with Asperger's at age 5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Like a normal kid, I showed the same range of emotions as you would expect from a neurotypical child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laughed with my friends, got upset and cried when my feelings were hurt, I showed surprise, curiosity, interest, disappointment, etc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People responded accordingly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was a polite and friendly child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At 11 years old, my life situation and outlook change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noticed the severity of both my parents' and grandfather's sicknesses and ailment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wanted to help them out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bsolutism defined by Asperger's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ing absolute truth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facts that can't be refute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ing security in permanent solution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works all the time, in all places, or not at al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 algn="ctr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Thinking Limits Absolutely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20360" y="1671120"/>
            <a:ext cx="845964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refuse to complain, I don't want to cause even more stress for my parents by having problems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lvl="1" marL="1484280" indent="-5684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6b6b"/>
                </a:solidFill>
                <a:latin typeface="Arial"/>
              </a:rPr>
              <a:t>Do something that works all the time, in all places, and is a permanent solution</a:t>
            </a:r>
            <a:endParaRPr b="0" lang="en-US" sz="28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At the same time, I was mocked for showing emotion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My reactions were misconstrued as Asperger'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20360" y="1671120"/>
            <a:ext cx="8459640" cy="5278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absolutely decided not to show any emotion through body language and word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looked stiff, stoic, and socially unresponsive to everyone in public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Consequently, everyone started to respond to me with rejection and mistrust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unintentionally started a vicious cycle that lasted for years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still wanted friendship but it seemed like nobody knew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'm even more resolute not to show emotion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appeared sullen and deadpan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Out of self-defense, I withdrew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   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43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bottle up all my feeling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The outside world looks at such behavior       and says, “See? It's obviously Asperger's.”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 know I'm hurt but I say nothing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My supportive parents hid their fears from me, I unfortunately did the same to support them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n public I don't show emotion after my dad passed away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4822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I don't get consoled, my siblings do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Their emotions were acknowledged because they did not create an absolute the way I di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My absolutism disregarded typical daily challenge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My mom could tell something was wrong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Years later, after I understood the absolute I created, only then could I explain to her what happened in my youth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20720" y="539640"/>
            <a:ext cx="8639280" cy="102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8200" cy="377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In therapy, I learned how to stop unnecessary absolutes and challenged myself not to make new one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</a:rPr>
              <a:t>Although I still have Asperger's, the symptoms of it are undetectable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3600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800000"/>
                </a:solidFill>
                <a:latin typeface="Arial"/>
              </a:rPr>
              <a:t>I'll Never Complain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1520" y="1851120"/>
            <a:ext cx="845964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5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Humor also helped me confront this absolute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Laughter/other arts touches other peoples' heart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I could see what's supposed to happen with emotions this whole time, and watching and performing comedy helped me trust myself and my instinct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6b6b"/>
                </a:solidFill>
                <a:latin typeface="Arial"/>
                <a:ea typeface="Arial Unicode MS"/>
              </a:rPr>
              <a:t>This entire time I understood peoples' sensibilities, therefore it's a expression problem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marL="425880" indent="-320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al of this presentation is to explain that that Asperger's Syndrome is misunderstood. Therefore, conventional solutions are ineffective. The non-Asperger's population assumes the symptoms are the problems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marL="425880" indent="-32076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will explain that absolutism is Asperger's major problem, and to present the solutions that will minimize the problem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Absolutism defined by Asperger's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ing absolute truth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facts that can't be refuted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ing security in permanent solutions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that works all the time, in all places, or not at al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gravity, moral rules, math (2+2=4)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ue story by Eric Otness, age 27, B.A. American Studies, diagnosed with Asperger's at age 5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: 8 years old, 3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's warning on last day of school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 don't use sunblock, you'll get skin cancer.”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or to hearing this message, Eric had no opinion of the sun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 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4248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on after, Eric saw the following public service announcement: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upset, emotional widow cries out about her husband who merely did yard work.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y husband was mowing the lawn, and got skin cancer from being out in the sun!”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ic made an absolute that significantly altered his life for the next 20 years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absolutely decided to avoid the sun at all costs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 stopped playing outside with friends and his dog</a:t>
            </a:r>
            <a:endParaRPr b="0" lang="en-US" sz="26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was brokenhearted at losing his friends and quality time with his dog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 of necessity, he did what anyone else would do, entertained himself inside, with his computer, video games, and parents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ssumed that he became antisocial, preferred being by himself, and chose technology over human contact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459640" cy="37814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 fontScale="99000"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's symptoms of his absolute was misunderstood as Asperger's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fear of the sun was the equivalent to that of an 8 year old fearing monsters under his bed that were going to kill him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appropriate interventions, Eric has no fear of the sun and was proud of a recent sunburn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marL="216000" indent="0" algn="ctr">
              <a:lnSpc>
                <a:spcPct val="87000"/>
              </a:lnSpc>
              <a:buNone/>
              <a:tabLst>
                <a:tab algn="l" pos="0"/>
                <a:tab algn="l" pos="216000"/>
                <a:tab algn="l" pos="673200"/>
                <a:tab algn="l" pos="1130400"/>
                <a:tab algn="l" pos="1587600"/>
                <a:tab algn="l" pos="2044800"/>
                <a:tab algn="l" pos="2502000"/>
                <a:tab algn="l" pos="2959200"/>
                <a:tab algn="l" pos="3416400"/>
                <a:tab algn="l" pos="3873600"/>
                <a:tab algn="l" pos="4330800"/>
                <a:tab algn="l" pos="4788000"/>
                <a:tab algn="l" pos="5245200"/>
                <a:tab algn="l" pos="5702400"/>
                <a:tab algn="l" pos="6159600"/>
                <a:tab algn="l" pos="6616800"/>
                <a:tab algn="l" pos="7074000"/>
                <a:tab algn="l" pos="7531200"/>
                <a:tab algn="l" pos="7988400"/>
                <a:tab algn="l" pos="8445600"/>
                <a:tab algn="l" pos="8902800"/>
                <a:tab algn="l" pos="9360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I Won't Go Outside Again”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459640" cy="3779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now goes outside like anyone else, socializing, dog-walking, and anything else outside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ce his absolute conclusion was removed, his debilitating and petrifying fear was eliminated. 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20720" y="539280"/>
            <a:ext cx="8640720" cy="1024200"/>
          </a:xfrm>
          <a:prstGeom prst="rect">
            <a:avLst/>
          </a:prstGeom>
          <a:noFill/>
          <a:ln w="0">
            <a:noFill/>
          </a:ln>
        </p:spPr>
        <p:txBody>
          <a:bodyPr lIns="0" rIns="0" tIns="6732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When absolutes cause conflict</a:t>
            </a:r>
            <a:endParaRPr b="0" lang="en-US" sz="41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20360" y="1563480"/>
            <a:ext cx="84596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5256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bsolute Thinking Limits Absolutely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conclusions in fluid situations cause conflict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rger's individuals typically create complex absolute conclusions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ly, Asperger's individuals become confused, frustrated, and withdrawn because they seek consistency, reliability, and predictability.</a:t>
            </a: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0"/>
                <a:tab algn="l" pos="112680"/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6b6b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19:37:09Z</dcterms:created>
  <dc:creator/>
  <dc:description/>
  <dc:language>en-US</dc:language>
  <cp:lastModifiedBy/>
  <cp:revision>1</cp:revision>
  <dc:subject/>
  <dc:title/>
</cp:coreProperties>
</file>