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8FB1-8C1D-4CD4-8B4B-89B42DC8D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676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3952080"/>
            <a:ext cx="845676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4E07-9303-4513-8DF5-14497132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3680" y="19792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39520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3680" y="39520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0797-5BF5-4516-B348-DDC847363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722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480" y="1979280"/>
            <a:ext cx="2722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600" y="1979280"/>
            <a:ext cx="2722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3952080"/>
            <a:ext cx="2722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480" y="3952080"/>
            <a:ext cx="2722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600" y="3952080"/>
            <a:ext cx="2722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E87D-AE4C-486A-87BF-80CA88722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E5DB-0A31-4C31-9D66-DE9BE66D7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45676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D37A-11C1-4F70-9D32-78DE2631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676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47E0-0936-4BDC-9BBC-D348AEDC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668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3680" y="1979280"/>
            <a:ext cx="412668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5DCD-97F2-419E-A4C1-934151AB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A977-99FF-49A1-B752-43898620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20360" y="539640"/>
            <a:ext cx="863748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E6D8-366B-4B65-8BA8-C93EFB81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3680" y="1979280"/>
            <a:ext cx="412668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0360" y="39520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5F4C-BBC5-4C29-8F1F-96FC3E9C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45676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A67F-0807-4195-BC23-08159F04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668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3680" y="19792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3680" y="39520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DC43-225F-45F8-AA6F-B0CF004B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3680" y="19792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0360" y="3952080"/>
            <a:ext cx="845676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3C9E-BF91-4021-9D8E-56A3531A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676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0360" y="3952080"/>
            <a:ext cx="845676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5BD0-C3BA-4496-87D1-C5D3F6F8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3680" y="19792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0360" y="39520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3680" y="39520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CE3A-F5C1-4B16-A5E6-27F7FED18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722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480" y="1979280"/>
            <a:ext cx="2722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38600" y="1979280"/>
            <a:ext cx="2722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0360" y="3952080"/>
            <a:ext cx="2722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480" y="3952080"/>
            <a:ext cx="2722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38600" y="3952080"/>
            <a:ext cx="2722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A3A4-3227-4AC5-A6A2-686335BB8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EE8BF-D384-4D74-BF91-03FF844F9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45676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8F5C1-B48C-46FF-A603-4720032F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676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1976D-489B-4C51-A372-898DBF12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668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53680" y="1979280"/>
            <a:ext cx="412668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F879E-65D6-49F4-9EAE-C4DBB292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58370-5ABF-4C6F-8DA8-63B258BD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676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9D26-6F03-414E-B26C-C5328CB4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20360" y="539640"/>
            <a:ext cx="863748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62125-9281-432E-8278-98291356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53680" y="1979280"/>
            <a:ext cx="412668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20360" y="39520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5A366-217E-4721-ADB5-D16AD2CE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668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53680" y="19792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53680" y="39520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FF2D5-50F6-43CE-9022-737BDC07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53680" y="19792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20360" y="3952080"/>
            <a:ext cx="845676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84734-704D-4D8B-A43F-5E89F57F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676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20360" y="3952080"/>
            <a:ext cx="845676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F3189-DC5E-47AC-A237-68EE1321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3680" y="19792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20360" y="39520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53680" y="39520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7E98D-D1F7-4F22-A965-07853F002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722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79480" y="1979280"/>
            <a:ext cx="2722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38600" y="1979280"/>
            <a:ext cx="2722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20360" y="3952080"/>
            <a:ext cx="2722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79480" y="3952080"/>
            <a:ext cx="2722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38600" y="3952080"/>
            <a:ext cx="2722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9483C-BB55-4EE3-93CA-6FC475B99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84982-042B-44DD-B124-0DC278277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45676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EFE4B-7200-42E7-BE65-D2661342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676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81947-B8AA-4F5F-AF5B-F12C65C4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668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3680" y="1979280"/>
            <a:ext cx="412668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D2EC-DBD2-4122-8416-8B816EDB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668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53680" y="1979280"/>
            <a:ext cx="412668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6E0F1-8285-4AEF-B0F4-519F08C3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D3A35-9589-4F69-BA78-2B2CC0AC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20360" y="539640"/>
            <a:ext cx="863748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80B8A-919A-4D74-BFE8-C0F4740E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53680" y="1979280"/>
            <a:ext cx="412668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20360" y="39520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FE383-1154-4E0B-95C5-36498984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668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53680" y="19792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53680" y="39520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7A2E7-DC19-4B30-A327-6EB71920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3680" y="19792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20360" y="3952080"/>
            <a:ext cx="845676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D0CC7-C160-4035-89DF-88EE74DB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676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20360" y="3952080"/>
            <a:ext cx="845676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5F2DC-D6D5-4798-BA89-152AAB24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53680" y="19792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20360" y="39520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53680" y="39520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3BC08-AAA4-422E-B77A-1F717654D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722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79480" y="1979280"/>
            <a:ext cx="2722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38600" y="1979280"/>
            <a:ext cx="2722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20360" y="3952080"/>
            <a:ext cx="2722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79480" y="3952080"/>
            <a:ext cx="2722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38600" y="3952080"/>
            <a:ext cx="2722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74507-354E-4259-ACFF-93271E84C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777E-88DF-49F5-8892-79AAC610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360" y="539640"/>
            <a:ext cx="863748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BD95-297B-4ED3-8BB1-BC046EAD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3680" y="1979280"/>
            <a:ext cx="412668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39520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6D66-D92B-41D0-B58F-AB1DA9A4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668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3680" y="19792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3680" y="39520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61AF-D78B-4B40-B809-1D03479F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3680" y="19792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3952080"/>
            <a:ext cx="845676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5B21-9BC5-4346-8EC1-39035F7F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D6314-0723-40D3-9F8E-719D37F5BE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1979280"/>
            <a:ext cx="845676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1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2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3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4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5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6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76080" y="630072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19640" y="6318000"/>
            <a:ext cx="321912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1720" y="631800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FDE1C-7A63-4DB5-8A74-1B2ED8A515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23702-E2EF-462A-8889-DCF1D58571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20360" y="1979280"/>
            <a:ext cx="845676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1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2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3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4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5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6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76080" y="630072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19640" y="6318000"/>
            <a:ext cx="321912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11720" y="631800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70C9B-06A1-4FBA-8D99-C81530997B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esourceeducationsolutions.com/" TargetMode="External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16040" y="498600"/>
            <a:ext cx="864072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6732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Demystifying Asperger's and Absolutism</a:t>
            </a: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720360" y="1523520"/>
            <a:ext cx="845964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ies and strategies developed at: Resource Education Solutions, L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7000"/>
              </a:lnSpc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resourceeducationsolutions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7000"/>
              </a:lnSpc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7000"/>
              </a:lnSpc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ard Kaplan, M.Ed, Sp.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7000"/>
              </a:lnSpc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er and Director, Resource Education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7000"/>
              </a:lnSpc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7000"/>
              </a:lnSpc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Huebner, Lead teacher, B.S, Ge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7000"/>
              </a:lnSpc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ed with Asperger's, ag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7000"/>
              </a:lnSpc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lang="en-US" sz="4100" spc="-1" strike="noStrike">
                <a:solidFill>
                  <a:srgbClr val="800000"/>
                </a:solidFill>
                <a:latin typeface="Arial"/>
              </a:rPr>
              <a:t>I'll Never Complain Again”</a:t>
            </a: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7000"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6b6b"/>
                </a:solidFill>
                <a:latin typeface="Arial"/>
              </a:rPr>
              <a:t>A real life story by Simon Huebner, B.S., Geology, diagnosed with Asperger's at age 5</a:t>
            </a:r>
            <a:endParaRPr b="0" lang="en-US" sz="26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Like a normal kid, I showed the same range of emotions as you would expect from a neurotypical child. 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I laughed with my friends, got upset and cried when my feelings were hurt, I showed surprise, curiosity, interest, disappointment, etc.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lang="en-US" sz="4100" spc="-1" strike="noStrike">
                <a:solidFill>
                  <a:srgbClr val="800000"/>
                </a:solidFill>
                <a:latin typeface="Arial"/>
              </a:rPr>
              <a:t>I'll Never Complain Again”</a:t>
            </a: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9640" cy="37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People responded accordingly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I was a polite and friendly child 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At 11 years old, my life situation and outlook changed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I noticed the severity of both my parents' and grandfather's sicknesses and ailments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I wanted to help them out 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6732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bsolutism defined by Asperger's</a:t>
            </a: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459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 fontScale="99000"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ing absolute truths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lute facts that can't be refuted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ing security in permanent solutions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that works all the time, in all places, or not at al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bsolute Thinking Limits Absolutely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lang="en-US" sz="4100" spc="-1" strike="noStrike">
                <a:solidFill>
                  <a:srgbClr val="800000"/>
                </a:solidFill>
                <a:latin typeface="Arial"/>
              </a:rPr>
              <a:t>I'll Never Complain Again”</a:t>
            </a: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20360" y="1671120"/>
            <a:ext cx="845964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I refuse to complain, I don't want to cause even more stress for my parents by having problems. 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1" marL="1484280" indent="-568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6b6b"/>
                </a:solidFill>
                <a:latin typeface="Arial"/>
              </a:rPr>
              <a:t>Do something that works all the time, in all places, and is a permanent solution</a:t>
            </a:r>
            <a:endParaRPr b="0" lang="en-US" sz="28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At the same time, I was mocked for showing emotions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My reactions were misconstrued as Asperger's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lang="en-US" sz="4100" spc="-1" strike="noStrike">
                <a:solidFill>
                  <a:srgbClr val="800000"/>
                </a:solidFill>
                <a:latin typeface="Arial"/>
              </a:rPr>
              <a:t>I'll Never Complain Again”</a:t>
            </a: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20360" y="1671120"/>
            <a:ext cx="845964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I absolutely decided not to show any emotion through body language and words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I looked stiff, stoic, and socially unresponsive to everyone in public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Consequently, everyone started to respond to me with rejection and mistrust 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lang="en-US" sz="4100" spc="-1" strike="noStrike">
                <a:solidFill>
                  <a:srgbClr val="800000"/>
                </a:solidFill>
                <a:latin typeface="Arial"/>
              </a:rPr>
              <a:t>I'll Never Complain Again”</a:t>
            </a: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9640" cy="37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I unintentionally started a vicious cycle that lasted for years.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I still wanted friendship but it seemed like nobody knew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I'm even more resolute not to show emotion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I appeared sullen and deadpan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Out of self-defense, I withdrew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lang="en-US" sz="4100" spc="-1" strike="noStrike">
                <a:solidFill>
                  <a:srgbClr val="800000"/>
                </a:solidFill>
                <a:latin typeface="Arial"/>
              </a:rPr>
              <a:t>I'll Never Complain Again”   </a:t>
            </a: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964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I bottle up all my feelings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The outside world looks at such behavior       and says, “See? It's obviously Asperger's.”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I know I'm hurt but I say nothing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My supportive parents hid their fears from me, I unfortunately did the same to support them 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In public I don't show emotion after my dad passed away 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lang="en-US" sz="4100" spc="-1" strike="noStrike">
                <a:solidFill>
                  <a:srgbClr val="800000"/>
                </a:solidFill>
                <a:latin typeface="Arial"/>
              </a:rPr>
              <a:t>I'll Never Complain Again”</a:t>
            </a: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964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  <a:ea typeface="Arial Unicode MS"/>
              </a:rPr>
              <a:t>I don't get consoled, my siblings do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  <a:ea typeface="Arial Unicode MS"/>
              </a:rPr>
              <a:t>Their emotions were acknowledged because they did not create an absolute the way I did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  <a:ea typeface="Arial Unicode MS"/>
              </a:rPr>
              <a:t>My absolutism disregarded typical daily challenges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  <a:ea typeface="Arial Unicode MS"/>
              </a:rPr>
              <a:t>My mom could tell something was wrong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  <a:ea typeface="Arial Unicode MS"/>
              </a:rPr>
              <a:t>Years later, after I understood the absolute I created, only then could I explain to her what happened in my youth. 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lang="en-US" sz="4100" spc="-1" strike="noStrike">
                <a:solidFill>
                  <a:srgbClr val="800000"/>
                </a:solidFill>
                <a:latin typeface="Arial"/>
              </a:rPr>
              <a:t>I'll Never Complain Again”</a:t>
            </a: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In therapy, I learned how to stop unnecessary absolutes and challenged myself not to make new ones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Although I still have Asperger's, the symptoms of it are undetectable 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lang="en-US" sz="4100" spc="-1" strike="noStrike">
                <a:solidFill>
                  <a:srgbClr val="800000"/>
                </a:solidFill>
                <a:latin typeface="Arial"/>
              </a:rPr>
              <a:t>I'll Never Complain Again”</a:t>
            </a: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31520" y="1851120"/>
            <a:ext cx="845964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5000"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  <a:ea typeface="Arial Unicode MS"/>
              </a:rPr>
              <a:t>Humor also helped me confront this absolute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  <a:ea typeface="Arial Unicode MS"/>
              </a:rPr>
              <a:t>Laughter/other arts touches other peoples' hearts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  <a:ea typeface="Arial Unicode MS"/>
              </a:rPr>
              <a:t>I could see what's supposed to happen with emotions this whole time, and watching and performing comedy helped me trust myself and my instincts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  <a:ea typeface="Arial Unicode MS"/>
              </a:rPr>
              <a:t>This entire time I understood peoples' sensibilities, therefore it's a expression problem.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67320" bIns="0" anchor="ctr">
            <a:noAutofit/>
          </a:bodyPr>
          <a:p>
            <a:pPr marL="216000" indent="0" algn="ctr">
              <a:lnSpc>
                <a:spcPct val="87000"/>
              </a:lnSpc>
              <a:buNone/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45964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 fontScale="99000"/>
          </a:bodyPr>
          <a:p>
            <a:pPr marL="425880" indent="-32076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al of this presentation is to explain that that Asperger's Syndrome is misunderstood. Therefore, conventional solutions are ineffective. The non-Asperger's population assumes the symptoms are the problems. 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marL="425880" indent="-32076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will explain that absolutism is Asperger's major problem, and to present the solutions that will minimize the problem.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6732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bsolutism defined by Asperger's</a:t>
            </a: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45964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ing absolute truths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lute facts that can't be refuted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ing security in permanent solutions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that works all the time, in all places, or not at al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gravity, moral rules, math (2+2=4)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67320" bIns="0" anchor="ctr">
            <a:noAutofit/>
          </a:bodyPr>
          <a:p>
            <a:pPr marL="216000" indent="0" algn="ctr">
              <a:lnSpc>
                <a:spcPct val="87000"/>
              </a:lnSpc>
              <a:buNone/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I Won't Go Outside Again”</a:t>
            </a: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45964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 fontScale="99000"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ue story by Eric Otness, age 27, B.A. American Studies, diagnosed with Asperger's at age 5</a:t>
            </a:r>
            <a:endParaRPr b="0" lang="en-US" sz="26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ing: 8 years old, 3</a:t>
            </a:r>
            <a:r>
              <a:rPr b="0" lang="en-US" sz="3200" spc="-1" strike="noStrike" baseline="33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's warning on last day of schoo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don't use sunblock, you'll get skin cancer.” 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 to hearing this message, Eric had no opinion of the sun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67320" bIns="0" anchor="ctr">
            <a:noAutofit/>
          </a:bodyPr>
          <a:p>
            <a:pPr marL="216000" indent="0" algn="ctr">
              <a:lnSpc>
                <a:spcPct val="87000"/>
              </a:lnSpc>
              <a:buNone/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I Won't Go Outside Again” </a:t>
            </a: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964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 fontScale="99000"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on after, Eric saw the following public service announcement:</a:t>
            </a:r>
            <a:endParaRPr b="0" lang="en-US" sz="26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upset, emotional widow cries out about her husband who merely did yard work.</a:t>
            </a:r>
            <a:endParaRPr b="0" lang="en-US" sz="26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y husband was mowing the lawn, and got skin cancer from being out in the sun!”</a:t>
            </a:r>
            <a:endParaRPr b="0" lang="en-US" sz="26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ic made an absolute that significantly altered his life for the next 20 years</a:t>
            </a:r>
            <a:endParaRPr b="0" lang="en-US" sz="26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 absolutely decided to avoid the sun at all costs</a:t>
            </a:r>
            <a:endParaRPr b="0" lang="en-US" sz="26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 stopped playing outside with friends and his dog</a:t>
            </a:r>
            <a:endParaRPr b="0" lang="en-US" sz="26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67320" bIns="0" anchor="ctr">
            <a:noAutofit/>
          </a:bodyPr>
          <a:p>
            <a:pPr marL="216000" indent="0" algn="ctr">
              <a:lnSpc>
                <a:spcPct val="87000"/>
              </a:lnSpc>
              <a:buNone/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I Won't Go Outside Again”</a:t>
            </a: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45964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 fontScale="99000"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c was brokenhearted at losing his friends and quality time with his dog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 of necessity, he did what anyone else would do, entertained himself inside, with his computer, video games, and parents.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assumed that he became antisocial, preferred being by himself, and chose technology over human contact.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67320" bIns="0" anchor="ctr">
            <a:noAutofit/>
          </a:bodyPr>
          <a:p>
            <a:pPr marL="216000" indent="0" algn="ctr">
              <a:lnSpc>
                <a:spcPct val="87000"/>
              </a:lnSpc>
              <a:buNone/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I Won't Go Outside Again”</a:t>
            </a: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45964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 fontScale="99000"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c's symptoms of his absolute was misunderstood as Asperger's. 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fear of the sun was the equivalent to that of an 8 year old fearing monsters under his bed that were going to kill him.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appropriate interventions, Eric has no fear of the sun and was proud of a recent sunburn. 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67320" bIns="0" anchor="ctr">
            <a:noAutofit/>
          </a:bodyPr>
          <a:p>
            <a:pPr marL="216000" indent="0" algn="ctr">
              <a:lnSpc>
                <a:spcPct val="87000"/>
              </a:lnSpc>
              <a:buNone/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I Won't Go Outside Again”</a:t>
            </a: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9640" cy="37796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c now goes outside like anyone else, socializing, dog-walking, and anything else outside.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his absolute conclusion was removed, his debilitating and petrifying fear was eliminated. 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6732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When absolutes cause conflict</a:t>
            </a: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20360" y="1563480"/>
            <a:ext cx="845964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bsolute Thinking Limits Absolutely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lute conclusions in fluid situations cause conflict.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rger's individuals typically create complex absolute conclusions.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ly, Asperger's individuals become confused, frustrated, and withdrawn because they seek consistency, reliability, and predictability.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12T19:37:09Z</dcterms:created>
  <dc:creator/>
  <dc:description/>
  <dc:language>en-US</dc:language>
  <cp:lastModifiedBy/>
  <cp:revision>1</cp:revision>
  <dc:subject/>
  <dc:title/>
</cp:coreProperties>
</file>